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488-D124-437B-BE86-5C2DA3B9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AD7-D56F-48D7-A567-31C265F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BED-5E51-488E-A576-D7D0352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7D4-5642-4108-9DDB-920FFB15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9F5-4443-4C3B-BCF4-A013936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D3B-EE7D-40BD-98C4-A041264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2D-01DA-4F32-B413-B8C95393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B92-06FA-4754-A8C7-DBA3863E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AAE-1537-448F-A6F7-6AE8649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CBE-BCAC-4107-A0E8-3F9E7F4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F9F-1066-42A8-8E75-638F3A4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521-DEBA-4407-A369-8B4D1C7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FB41-01B1-415B-BEE9-BB05CCB47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ING &amp; ANALYSING ARTICLES US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UL’S WHEEL OF ANALYSI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371600"/>
            <a:ext cx="6400800" cy="655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4956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86240" y="1371600"/>
            <a:ext cx="9504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2286000"/>
            <a:ext cx="449568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0"/>
            <a:ext cx="459108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6760" y="152388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3680" y="44956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200" y="4511520"/>
            <a:ext cx="16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19720" y="55627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.O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560" y="2971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77720" y="2943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IDENC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0720" y="55627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38200" y="152388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200" y="8534520"/>
            <a:ext cx="572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Based on Joyce Van Tasselbaska’s modification of Paul’s Reason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66800" y="1771560"/>
            <a:ext cx="1948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text typ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do you think i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pose of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y did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write thi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8520" y="2057400"/>
            <a:ext cx="1398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ed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6440" y="3476520"/>
            <a:ext cx="199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evidence do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riter use 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point?  Does he qu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4960" y="4724280"/>
            <a:ext cx="204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writer’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on the issu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writ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of 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e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3360" y="334008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nferences can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from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can you infer about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ne and attitude of the wri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5240" y="4956120"/>
            <a:ext cx="2710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possible 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equences of the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ent in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p.i.c.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5000" y="5931000"/>
            <a:ext cx="145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concept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tract id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present i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9560" y="6006960"/>
            <a:ext cx="233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se point of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present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interest group doe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represen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85680" y="8024760"/>
            <a:ext cx="33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8 Possible Points of Entry (P.O.E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5320" y="9175680"/>
            <a:ext cx="132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P/ENGLISH/T1WK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474372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ING &amp; ANALYSING ARTICLES US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AUL’S WHEEL OF ANALYSIS* 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8440" y="936720"/>
            <a:ext cx="64216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tle of article : 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: 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 taken from 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 :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133720"/>
            <a:ext cx="6553440" cy="678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133720"/>
            <a:ext cx="76320" cy="678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4864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200400"/>
            <a:ext cx="480060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66680" y="3124080"/>
            <a:ext cx="464832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23018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23018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920" y="385452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6000" y="382572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IDENC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3680" y="54864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200" y="5502240"/>
            <a:ext cx="16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9720" y="64771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.O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7800" y="64771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5320" y="9539280"/>
            <a:ext cx="132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P/ENGLISH/T1WK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7200" y="9067680"/>
            <a:ext cx="572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Based on Joyce Van Tasselbaska’s modification of Paul’s Reason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06:57:26Z</dcterms:created>
  <dc:creator>Edmund Teo</dc:creator>
  <dc:description/>
  <dc:language>en-US</dc:language>
  <cp:lastModifiedBy>lokelf</cp:lastModifiedBy>
  <dcterms:modified xsi:type="dcterms:W3CDTF">2009-06-26T07:12:20Z</dcterms:modified>
  <cp:revision>10</cp:revision>
  <dc:subject/>
  <dc:title>READING &amp; ANALYSING ARTICLES USING PAUL’S WHEEL OF ANALYSIS</dc:title>
</cp:coreProperties>
</file>